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FC6-D98C-41BD-B500-0A3A8A45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E2D-F694-456A-8BEB-734C7FA8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27B-869F-481A-AA53-51C790EC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175D-4405-46F2-AC1E-B2CAB0E8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2A7F-1BA8-4F73-9843-A2007D64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5743-24A8-40A9-82C5-2B9E79B9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26CE-80A3-4100-91C9-7857B4D8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C29F-5CD5-4079-9CDE-A98A79F9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4055-339A-41E5-9822-A18D2BE3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9E97-7A56-40BE-BD7C-831257A0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A988-025C-47A5-A8B4-52881A36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A16-62DA-4B1F-8DC3-B4915187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FE07-C3A3-4D5E-8A64-3B075A33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8AB5-152E-4F6A-B7D8-201036A7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181D-CF4D-415B-9BD5-ED871847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1851-0969-4745-B8BD-66DAB939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7383-2164-4C42-935C-85CD1E58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67AD4-78A4-47EA-BA2C-3341AA78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70401-ABD7-403B-9E51-63AE40F9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C5C75-C164-44DA-B7FA-D2CFC8D5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06BEA-B933-43AE-99ED-B4934E09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B94A6-DA9E-4F8B-87DD-35D3F7FA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21AB-C578-42C8-A0E9-35BF5BC8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1AD62-DB0F-462E-A374-5D3E0435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BE091-1CF6-4B38-B223-A6E14E26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9B033-86B5-4268-91D9-6B565521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05EDB-CD0E-4962-B4A5-8354E3A5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EE823-C21D-4D65-B679-5A95E4C9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75658-BCB2-41B3-8E97-A2513B11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C8518-F700-4CDC-BECE-4EE4CA7D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22A0-E279-43A1-BF94-C9821BCD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86D-FD6B-4EF0-86E6-26D951CD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C16-6C25-4519-9C6E-D10076DF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B7F4-C99A-496B-9055-0BCB4E6C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FCB-B5D2-4E90-AB06-55EB445E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52F5-65D7-413C-9642-6FC3C6D8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8579-2092-41D6-AC56-1342F2071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B5F0-E68E-444F-AB03-EEEDB520FE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99D2-0571-4EDF-B44F-E9B3B4B05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6480" y="2276640"/>
            <a:ext cx="9144000" cy="15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Introductio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to laboratory practi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72080" y="5656320"/>
            <a:ext cx="447192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partment of Physi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87360" y="144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UL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2700360" y="393372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e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80010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38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ING OF SPECIFIC EFFECTS ON EXPERIMENTAL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85880" y="2000160"/>
            <a:ext cx="81072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LATION                                DOG, RAT RESPIRATION                                RAT, GUINEA P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ROINTESTINAL                    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MATOLOGY                               MOUSE, 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LOGY                                 CAT, 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MONES                                   RAT,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URESIS                                      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ight Arrow 6"/>
          <p:cNvSpPr/>
          <p:nvPr/>
        </p:nvSpPr>
        <p:spPr>
          <a:xfrm flipV="1">
            <a:off x="4140360" y="214236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ight Arrow 7"/>
          <p:cNvSpPr/>
          <p:nvPr/>
        </p:nvSpPr>
        <p:spPr>
          <a:xfrm flipV="1">
            <a:off x="4140360" y="342828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Arrow 8"/>
          <p:cNvSpPr/>
          <p:nvPr/>
        </p:nvSpPr>
        <p:spPr>
          <a:xfrm flipV="1">
            <a:off x="4140360" y="392832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ight Arrow 9"/>
          <p:cNvSpPr/>
          <p:nvPr/>
        </p:nvSpPr>
        <p:spPr>
          <a:xfrm flipV="1">
            <a:off x="4140360" y="435708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ight Arrow 10"/>
          <p:cNvSpPr/>
          <p:nvPr/>
        </p:nvSpPr>
        <p:spPr>
          <a:xfrm flipV="1">
            <a:off x="4140360" y="4786200"/>
            <a:ext cx="928440" cy="214560"/>
          </a:xfrm>
          <a:prstGeom prst="rightArrow">
            <a:avLst>
              <a:gd name="adj1" fmla="val 50000"/>
              <a:gd name="adj2" fmla="val 49923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ight Arrow 11"/>
          <p:cNvSpPr/>
          <p:nvPr/>
        </p:nvSpPr>
        <p:spPr>
          <a:xfrm flipV="1">
            <a:off x="4140360" y="257112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ight Arrow 12"/>
          <p:cNvSpPr/>
          <p:nvPr/>
        </p:nvSpPr>
        <p:spPr>
          <a:xfrm flipV="1">
            <a:off x="4140360" y="3000240"/>
            <a:ext cx="928440" cy="214560"/>
          </a:xfrm>
          <a:prstGeom prst="rightArrow">
            <a:avLst>
              <a:gd name="adj1" fmla="val 50000"/>
              <a:gd name="adj2" fmla="val 49923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7120" y="1214280"/>
            <a:ext cx="8377200" cy="16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ts val="38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onditioning of laboratory animals – immobilization and anesth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500200" y="3143160"/>
            <a:ext cx="46436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56760" y="214200"/>
            <a:ext cx="85726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obilization 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echanic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ifferent apparatus for suspen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Pharmacolog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urgical anesthes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Electro-acupuncture anesthes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timulation of acupuncture points = opioid substances secre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42976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anesthes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the application of drugs that block the transfer of pain in the sensory nerves of selecte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1483920"/>
            <a:ext cx="6084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anesthe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ade of  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s (on cytoplasmic side) – enables the generation of action potent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myelinated fibers (and thinner myelinated fibers) are blocked first = pain, temperature (C, Aδ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elinated fibers (Aα,  Aβ) are blocked later = touch,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http://amaprod.silverchaircdn.com/data/Journals/JAMA/22468/m_jpg15020fa.png"/>
          <p:cNvPicPr/>
          <p:nvPr/>
        </p:nvPicPr>
        <p:blipFill>
          <a:blip r:embed="rId1"/>
          <a:stretch/>
        </p:blipFill>
        <p:spPr>
          <a:xfrm>
            <a:off x="6093000" y="2133720"/>
            <a:ext cx="3051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2560" y="2708280"/>
            <a:ext cx="709308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no cross reaction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nsitivity after 10 minutes (up to couple of hou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f administ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opical (spraying or drop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cal infiltration (by inj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lock anesthesia (near nerves ro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pinal anesthesia (subarachnoid sp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pid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5" descr="http://www.intelligentdental.com/wp-content/uploads/2012/02/lokalna-anestezija.jpg"/>
          <p:cNvPicPr/>
          <p:nvPr/>
        </p:nvPicPr>
        <p:blipFill>
          <a:blip r:embed="rId1"/>
          <a:stretch/>
        </p:blipFill>
        <p:spPr>
          <a:xfrm>
            <a:off x="5987880" y="4508640"/>
            <a:ext cx="3156120" cy="23493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"/>
          <p:cNvSpPr/>
          <p:nvPr/>
        </p:nvSpPr>
        <p:spPr>
          <a:xfrm>
            <a:off x="250920" y="404640"/>
            <a:ext cx="799308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local anesthe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s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caine, tetracaine – short effect, about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m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lidocaine, bupivacaine – prolonged effect, up to 1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216000" y="2205000"/>
            <a:ext cx="58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orepinephrine is usually added  to delay drugs up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786880" cy="264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anesthes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reversible, selective inhibition of C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GESIA = absence of p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FLEXIA  = absence of deep tendon reflex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NIA        = absence of skeletal muscles ton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7120" y="2571840"/>
            <a:ext cx="86630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hieve analgesia, areflexia, and atonia while preserving respiration and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nciple 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alatory – difficult for do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venous – short lasting, up to 1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isk of overdose – CNS, C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7120" y="785520"/>
            <a:ext cx="87868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anesthesia administ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f anesthetic g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ve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alatory anesthe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s – diethileter, methoxyfluran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genated hydrocarbons – halothane, trichloroethylen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us oxide (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venous anesthetic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opental sodium (ultra-short-acting barbitu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omi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f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t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60008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anesthesia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7640" y="1341000"/>
            <a:ext cx="57150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Analg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xcitation (delir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Surgical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Medullar par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292720" y="2565360"/>
            <a:ext cx="38512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-36360" y="260280"/>
            <a:ext cx="9036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ANALGESI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from the moment of administration to the moment of unconsciousness, touch sensation preserved -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ffects on brain cort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EXCITATION (DELIRIUM)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from the moment of unconsciousness to the moment of spinal reflexes turn off.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linical sig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over reactivity, irregular breathing, increased muscle tone, mydriasis... Premedication can prevent or inhibit this p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3. SURGICAL ANESTHESI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begins with skeletal muscles atonia and spinal reflexes turn off. Suitable for surgical interven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linical sig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regular and slow breathing, decrease muscle tone, swallowing reflex turn off, circular eye movements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ffects on spinal c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4. MEDULLAR PARALYS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if overdose the anesthetics may induc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he paralysis of brain ste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linical sig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irregular heartbeat with hypotension, respiration paralysis, sphincters relaxation, mydriasis with no response to light sensation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492280"/>
            <a:ext cx="8520120" cy="357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boratory animal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re selected species and housed in controlled populations, and used for research and testing to study about diseases, biological products, vaccines, etc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hoice depends on the type and aims of the experiment, but the animal must be HEALTHY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st common laboratory animals ar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mic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a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guinea pig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abb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frog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dog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ca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prim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929800" cy="11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ANNUAL EXPENDITURE FOR EXPERIMENTAL ANIMALS IN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ontent Placeholder 2"/>
          <p:cNvSpPr/>
          <p:nvPr/>
        </p:nvSpPr>
        <p:spPr>
          <a:xfrm>
            <a:off x="642960" y="1643040"/>
            <a:ext cx="78771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YPES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OTAL NUMBER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ts, mice, guinea pig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6.400.000       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bbit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3.300.000       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rds, frog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5.000         0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gs                                               84.000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0.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ig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42.000          0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t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9.000         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n-human primates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       60.000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0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tal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0.000.000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56800" y="285840"/>
            <a:ext cx="631692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s and m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13840" y="1143000"/>
            <a:ext cx="60008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tanding ability to ada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genome size and number of genes as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reproductiv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not expensive, easy to handle and suitable for various mani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strains are developed through selection (knock out seri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ology, virology/bacteriology, oncology, hematology,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ouse"/>
          <p:cNvPicPr/>
          <p:nvPr/>
        </p:nvPicPr>
        <p:blipFill>
          <a:blip r:embed="rId1"/>
          <a:stretch/>
        </p:blipFill>
        <p:spPr>
          <a:xfrm>
            <a:off x="6215040" y="928800"/>
            <a:ext cx="26240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63165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inea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600" y="119664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es of herbivorous rodent originating from Sou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, part of national cuisine (Peru, Boliv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reproductiv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ology, microbiology, endocrinology, immu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4500720" y="3857760"/>
            <a:ext cx="37861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71400" y="214200"/>
            <a:ext cx="18572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b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85560"/>
            <a:ext cx="5429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for dis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ob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also bred as domestic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ology, virus isolation, serum and vaccine standardization, isolated organs - phys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6000840" y="1143000"/>
            <a:ext cx="26431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314316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gs and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71680" y="1214280"/>
            <a:ext cx="78580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ly, they have been used mor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for new surgical techniques (transpla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 – gastrointestinal physiology and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929120" y="3786120"/>
            <a:ext cx="3429000" cy="2786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285840" y="3786120"/>
            <a:ext cx="4000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221472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6760" y="1213920"/>
            <a:ext cx="5286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model for examination of diseases in huma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 - they are extremely expensive, so they are used less 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baby-02_small"/>
          <p:cNvPicPr/>
          <p:nvPr/>
        </p:nvPicPr>
        <p:blipFill>
          <a:blip r:embed="rId1"/>
          <a:stretch/>
        </p:blipFill>
        <p:spPr>
          <a:xfrm>
            <a:off x="5715000" y="1071720"/>
            <a:ext cx="27986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150012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0040" y="128556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for studying the physiology of muscles, nerves and spinal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5572080" y="785880"/>
            <a:ext cx="3071880" cy="2357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6072120" y="371484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3:55:53Z</dcterms:created>
  <dc:creator>Maja</dc:creator>
  <dc:description/>
  <dc:language>en-US</dc:language>
  <cp:lastModifiedBy>Korisnik</cp:lastModifiedBy>
  <dcterms:modified xsi:type="dcterms:W3CDTF">2023-10-10T09:49:49Z</dcterms:modified>
  <cp:revision>167</cp:revision>
  <dc:subject/>
  <dc:title>Slide 1</dc:title>
</cp:coreProperties>
</file>